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8B82-B399-4375-9A59-B5EF568D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 from the Office of Science Education, the National Institutes of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chema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46941b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46941b"/>
                </a:solidFill>
                <a:latin typeface="Arial"/>
              </a:rPr>
              <a:t>Control DNA</a:t>
            </a: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, where either DNA or cDNA derived from normal tissue is hybridized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da251a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da251a"/>
                </a:solidFill>
                <a:latin typeface="Arial"/>
              </a:rPr>
              <a:t>Sample DNA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, where either DNA or cDNA is derived from diseased tissue hybridized to the target DNA.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a combination of Control and Sample DNA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, where both hybridized equally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BLACK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represents areas where 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neither the Control nor Sample DNA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hybridized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ﾊ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ach spot on an array is associated with a particular gene. Each color in an array represents either healthy (control) or diseased (sample) tissue. Depending on the type of array used, the location and intensity of a color will tell us whether the gene, or mutation, is present in either the control and/or sample DNA. It will also provide an estimate of the expression level of the gene(s) in the sample and control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genomics/method/RFL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eresting link with explanatino of RFLP and some case study problems re: paternit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NA on gel is denatured (to single-stranded DNA) using a chemical --&gt; single-stranded DNA on the Southern blot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704-04A2-4247-AD8A-60895989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3A0-8D39-4116-9FA4-8E9C377E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F4D-853F-49C0-819B-C6D632AC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CC9-D879-4520-B06C-1DCB2C82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9F2-1CCC-4F9B-8F44-76935BEF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6AA-9EC2-42F1-B28D-14D64ED7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FFD-8F6B-4B5D-8B0B-B11734C1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7B8-F8A5-4744-9FF2-2D26D1B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9D5-7DCC-4AE7-81CD-954B0730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88F-1A3F-4727-A954-D854E514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1B1-DDA7-4C2E-9E5C-40ABF8AE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14F-BE1E-4681-BBED-3E0995CD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5130-820C-480A-8D00-6C286162B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3 - Advanced Molecular Biological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09760" y="609480"/>
            <a:ext cx="4524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ger dideox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simple narrated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smcg.cifn.unam.mx/enp-unam/03-EstructuraDelGenoma/animaciones/secuencia.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oguelph.ca/biophysics/central/facilit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ol for analyzing gene expression that consists of a small membrane or glass slide containing samples of many genes arranged in a regular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scientists to analyze expression of many genes in a single experiment quickly and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interactive animation with simplified explanation of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bio.davidson.edu/courses/genomics/chip/chipQ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erase Chain Reaction (PC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rect method of making many copies of a DNA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increase because each cycle doubles the number of DNA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forensics, medical diagnosis and genetic research because a small amount of DNA can be amp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a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oly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mus aquati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ype of  bacteria that live in hot spr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 denatured at the high temperatures needed in 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ptimally at 72º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eodnaism.com/what-is/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62280" y="1981080"/>
            <a:ext cx="361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step-by-step animation of PCR process fir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dnal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org/resources/animations/pc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is excellent interactive “virtual lab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learn.genetics.utah.edu/content/labs/pc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Fragment Length Polymorphism (RFL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differences in DNA sequences between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 regions are often highly polymor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LP uses these differences to distinguish between individual DNA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7560" y="609480"/>
            <a:ext cx="462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LP animation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previous slide from: http://homepage.smc.edu/hgp/tools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simple narrated ani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bcs.whfreeman.com/thelifewire/content/chp16/160200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slide-show of RF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ihome.cuhk.edu.hk/~z045513/virtuallab/animation/rflp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quencing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www.nwfsc.noaa.gov/publications/techmemos/tm17/figures/moranfig4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ger dideoxy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developed in 1977 by Frederick Sanger &amp;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ar DNA sequen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26:53Z</dcterms:created>
  <dc:creator>rubina khan</dc:creator>
  <dc:description/>
  <dc:language>en-US</dc:language>
  <cp:lastModifiedBy>rubina khan</cp:lastModifiedBy>
  <dcterms:modified xsi:type="dcterms:W3CDTF">2011-11-30T16:13:13Z</dcterms:modified>
  <cp:revision>174</cp:revision>
  <dc:subject/>
  <dc:title>Biotechnological Tools and Techniques</dc:title>
</cp:coreProperties>
</file>